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752-FBFD-47B4-B61E-91A2652A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93C-35A4-45A1-96FC-67580993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7C6-C24F-434A-A931-6360C942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BD3-2342-4A00-B684-F43AA6FA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4DA-83C3-471D-9E79-BBEEBD98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1B4-E303-4F95-AF52-9CCE16ED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9D5-00C2-4DFE-899C-A595091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E10-6CFB-48A2-B5EA-C7F7D4F2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3A7-DF69-47EF-B7B2-F9A47DA2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B50-33DC-4DE5-B349-236DAC5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7E4-9834-470C-A059-00AD2FA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F82-A9CF-408C-852A-ED157696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CCB4-163A-41BD-9819-29FF3FBBB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 Usage and 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mmas where needed in the follow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 a sport Raines should quit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ort Raines should qui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sentenc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n will I am sure, b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’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word(s) that should be followed by a comma and put one after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We’re eating dinner now but I’ll call you back as sonn as we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re you busy Friday night or would you like to go to the movies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on’t forget to take your history book home this weekend for the test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he recipe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ly’s Coo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dapted for the modern cooks yet the ingredients listed are all tra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Quilting is a practical folk art and it is also a relaxing and enjoyable pas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n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eke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oo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noun does not agree with its antecedent write the correct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Each of the skiers waxed their skis every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Every one of the reporters at the press conference asked their questions too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I think that anybody should be free to express their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oth of the male soloists pronounced his words cl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f anyone gets lost while exploring Salt Lake City, they should use the street maps available from the tour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As far as I could see, each of the speakers made a mistake while presenting their argument during the deb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to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is or her or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or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71600" y="243828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End Enjoy your studing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the Quiz 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pronoun should refer clearly to its _____. Fill in th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Jack wants to go to their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with thi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whose farm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ree personal pronouns should you 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, it,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hould the comma go in the following sentenc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you are welcome to jo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ecause its an introducto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6:25Z</dcterms:created>
  <dc:creator>User</dc:creator>
  <dc:description/>
  <dc:language>en-US</dc:language>
  <cp:lastModifiedBy>User</cp:lastModifiedBy>
  <dcterms:modified xsi:type="dcterms:W3CDTF">2006-10-10T19:18:15Z</dcterms:modified>
  <cp:revision>3</cp:revision>
  <dc:subject/>
  <dc:title>Revision 1 </dc:title>
</cp:coreProperties>
</file>